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596-29E3-4D36-A5B4-0CF48B67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F9B-D79F-4445-BE34-151DAF4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0B4-50BB-4C51-9831-8A94F7ED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103-E08F-4707-B291-F5A0436C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F53A-FD7F-46DF-A17D-6EE50F54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998-BD7F-4C91-BDE5-EE0D5317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C62C-FC98-40E3-AA4D-3F9CA41E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1D50-C87B-4769-B06F-112998B9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3DCE-024B-4A52-AA99-7275A188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7ACB-58F4-4BDF-833D-B11E491B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6C07-4E9B-4571-97E2-94B40B7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BA7-830A-43B2-97E5-1FC3F6E4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E3B4-D5EA-4391-AFA9-059449E7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92AB-5D14-4463-9DE7-D71F3F52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FB95-F5C4-4E33-8134-39ED4064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6519-8CF7-4EF0-9459-320B902B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C3F2-6FFF-411F-AD42-F164D6EB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019-F16A-4802-B229-0055A89D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61D-24C6-4D61-9562-8BD20DBF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EEC-4401-41FA-83F3-F6A01FED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21C-2FB6-4420-8C51-9942BF77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49F-4203-4041-BB76-EDBD46B8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B91-BDA3-4CEF-B266-4719013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DA5-A8B5-44A2-AFA0-42668162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0F38017-43D5-4FF7-AF69-3DF6CF77D8E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18657CE-2AA9-461F-85C6-CEF5A236E7D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C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nging GDSII Lay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340640"/>
            <a:ext cx="3180960" cy="4704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068000" y="1340640"/>
            <a:ext cx="4733640" cy="469548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B8F1-0BE0-4690-90BB-FCE89E3774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ings To Do N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apt memories to the 90nm technology and import them to the Milkyway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ceed with the physical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6D19-6C86-462A-A55E-E365BA87E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Tools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using IC Compiler – Problems and solu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to do n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4A48-2C0D-46E4-8579-45AEC89DA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 Tools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Gen: This tool generates synthesizable RTL of a superscalar core based on user-specified parameter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Front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Back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Pipeline depths of canonical pipeline sta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Issue queue siz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: This tool estimates read/write delays, read/write energies, and area of user-specified multi-ported RAMs/CAMs. It can also generate layouts of desired RAMs/C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4460-A3C5-4332-9399-C08A62C4C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bGen-generated RTL is synthesiz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starting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nt-out the verification components to remove unsynthesizable verilog needed for simulation only: VPIs (the verilog/C++ co-simulation environment) and performance cou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FabMem to generate custom designs of these critical memory structures, including full layouts, SPICE netlists, and LEF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uring synthesis, remove the behavioral modules of the memory structures and constrain their input-port and output-port timing paths based on timing numbers from SPICE simul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place-and-route, use the LEFs to represent the memory structur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5AEA-B3FA-4A34-A557-41DD8A687B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100" spc="-1" strike="noStrike">
                <a:solidFill>
                  <a:srgbClr val="464653"/>
                </a:solidFill>
                <a:latin typeface="Bookman Old Style"/>
              </a:rPr>
              <a:t>Physical Design – Problems Encounter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C reports errors when importing netlist generated from synthes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rror message examples from IC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SRAM_4R8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CAM_4R4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rning message examples from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SRAM_4R8W' in 'InstructionBuffer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CAM_4R4W' in 'IssueQueue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use of the err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 corresponding memory cells in the Milkyway library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A32A-D65D-4648-9A2A-A426DF1B8D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1 – Find memory instances from existing designs – OpenSPARC, ChipTop, Leon, and memories from SAED_EDK90n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memory instances from these existing designs do not match the memories used in FabScalar cores, which are mostly multi-ported memor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2 – Use memory blocks generated from the FabMem too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uses the FreePDK 45nm library which does not match the 90nm technology library used in ICC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is very difficult to change the FreePDK 45nm library to 90nm technology library in FabMe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3 – Change to the FreePDK 45nm library for the physical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ynthesis could be done using FreePDK. But the FreePDK 45nm library could not be utilized in ICC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808E-C8F0-488B-BDA6-C2C1D6FDA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4 – Adapt the memory blocks generated from the FabMem tool to the 90nm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could generate layouts of memories, from which we can get the GDSII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adapt these layouts to the 90nm technology, we need to modify the GDSII files t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uble the size of each physical component in the layou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layer in the FreePDK library to these layers in the 90nm technology libra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52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ort these memory blocks to the Milkyway Library using the Milkyway Environment tool and the new GDSII memory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60C7-55BC-438C-A40B-0E54E1B900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ilkyway Environment is a standalone tool for preparing physical libraries from the layout data provided by an outside sour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43640" y="2565000"/>
            <a:ext cx="7056360" cy="3705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0900-C2DE-4A12-87EC-FFC6F0B851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brary Preparation Flow in the 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979640" y="1196640"/>
            <a:ext cx="5045400" cy="51123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49AA-8AFF-4F7F-9738-6BE2FB350B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764</TotalTime>
  <Application>LibreOffice/7.4.7.2$Linux_X86_64 LibreOffice_project/40$Build-2</Application>
  <AppVersion>15.0000</AppVersion>
  <Words>546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4-17T14:54:23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